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5400" y="767880"/>
            <a:ext cx="511344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E60E-F12F-4A10-949F-05D0540D5834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1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C56C-1206-4B95-B204-EDCFD1C37865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새로운 현상의 발견 저평가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실험적 조작 금지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새로운 자연철학 옹호자들의 주장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: “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아리스토텔레스주의는 경험에 입각하지 않고 논리와 말장난을 일삼는 이론 체계” 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맑은 고딕"/>
              </a:rPr>
              <a:t>Q. </a:t>
            </a: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아리스토텔레스는 경험적 전통의 대표주자 아니었나</a:t>
            </a:r>
            <a:r>
              <a:rPr b="0" lang="en-US" sz="15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맑은 고딕"/>
              </a:rPr>
              <a:t>A. </a:t>
            </a: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아리스토텔레스의 ‘경험’ ≠ 새로운 자연철학자들의 ‘경험’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아리스토텔레스와 스콜라철학에서 경험의 위상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c0504d"/>
                </a:solidFill>
                <a:latin typeface="맑은 고딕"/>
              </a:rPr>
              <a:t>경험은 모든 지식의 ‘원천’</a:t>
            </a:r>
            <a:r>
              <a:rPr b="0" lang="en-US" sz="15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플라톤과 달리 경험 강조했음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맑은 고딕"/>
              </a:rPr>
              <a:t>But </a:t>
            </a: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아리스토텔레스의 경험은 </a:t>
            </a:r>
            <a:r>
              <a:rPr b="1" lang="ko-KR" sz="1500" spc="-1" strike="noStrike" u="sng">
                <a:solidFill>
                  <a:srgbClr val="c0504d"/>
                </a:solidFill>
                <a:uFillTx/>
                <a:latin typeface="맑은 고딕"/>
              </a:rPr>
              <a:t>‘</a:t>
            </a:r>
            <a:r>
              <a:rPr b="1" lang="en-US" sz="1500" spc="-1" strike="noStrike" u="sng">
                <a:solidFill>
                  <a:srgbClr val="c0504d"/>
                </a:solidFill>
                <a:uFillTx/>
                <a:latin typeface="맑은 고딕"/>
              </a:rPr>
              <a:t>common knowledge’</a:t>
            </a:r>
            <a:r>
              <a:rPr b="0" lang="en-US" sz="15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누구나 알고 있고 일상에서 수없이 관찰되어 친숙해진 </a:t>
            </a:r>
            <a:r>
              <a:rPr b="1" lang="ko-KR" sz="1500" spc="-1" strike="noStrike">
                <a:solidFill>
                  <a:srgbClr val="c0504d"/>
                </a:solidFill>
                <a:latin typeface="맑은 고딕"/>
              </a:rPr>
              <a:t>‘보편적 경험’ 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c0504d"/>
                </a:solidFill>
                <a:latin typeface="맑은 고딕"/>
              </a:rPr>
              <a:t>	</a:t>
            </a:r>
            <a:r>
              <a:rPr b="0" lang="ko-KR" sz="1500" spc="-1" strike="noStrike">
                <a:solidFill>
                  <a:srgbClr val="c0504d"/>
                </a:solidFill>
                <a:latin typeface="맑은 고딕"/>
              </a:rPr>
              <a:t>예</a:t>
            </a:r>
            <a:r>
              <a:rPr b="0" lang="en-US" sz="1500" spc="-1" strike="noStrike">
                <a:solidFill>
                  <a:srgbClr val="c0504d"/>
                </a:solidFill>
                <a:latin typeface="맑은 고딕"/>
              </a:rPr>
              <a:t>) “</a:t>
            </a:r>
            <a:r>
              <a:rPr b="0" lang="ko-KR" sz="1500" spc="-1" strike="noStrike">
                <a:solidFill>
                  <a:srgbClr val="c0504d"/>
                </a:solidFill>
                <a:latin typeface="맑은 고딕"/>
              </a:rPr>
              <a:t>해가 동쪽에서 떠오른다” “무거운 것은 아래로 떨어진다”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아리스토텔레스 자연철학의 목표</a:t>
            </a:r>
            <a:r>
              <a:rPr b="0" lang="en-US" sz="1500" spc="-1" strike="noStrike">
                <a:solidFill>
                  <a:srgbClr val="000000"/>
                </a:solidFill>
                <a:latin typeface="맑은 고딕"/>
              </a:rPr>
              <a:t>: ‘</a:t>
            </a: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이미 알려진 것들’에 대해서</a:t>
            </a:r>
            <a:r>
              <a:rPr b="0" lang="en-US" sz="1500" spc="-1" strike="noStrike">
                <a:solidFill>
                  <a:srgbClr val="000000"/>
                </a:solidFill>
                <a:latin typeface="맑은 고딕"/>
              </a:rPr>
              <a:t>, “</a:t>
            </a: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왜” 그런 현상이 일어나게 되는지를 설명하는 것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3711-0885-40F8-B041-A343FB038299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즉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모든 지식의 원천은 경험에 근거하지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실 경험의 중요성은 매우 적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새로운 사실을 추가하거나 기존 사실을 변경하거나 더 상세하고 정교한 사실을 구축하는 일에는 관심이 없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D1DF-0190-4394-A920-4B17688928EC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7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기 후반의 과학자들에게 큰 영향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실험과학을 발전시킨 단 한명의 위대한 사람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자연을 마스터하고 인간을 위해 사용하도록 한 사람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실험과학의 첫 번째 순교자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과학자라기보다는 과학철학자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정치가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FEDE-2DC8-45AB-A480-E770EB235BCD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A55C-D645-4453-B59A-E067540223F6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마술적 전통과 르네상스 엔지니어 전통에 대한 비판적 수용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실험과학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9C0A-DE3F-40EB-9A3F-B8128B20E6EB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366F-3789-4BD8-978E-8BEC6FA6604B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존에 알고 있는 것 자체가 너무 적으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신뢰하기 어렵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잘못된 것이 많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체계적으로 정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수집된 경험적 사실들이 부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잘못된 언어에 현혹되지 말 것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추상적인 언어로 표현된 것은 사실이 아닐 가능성이 높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구체적인 진술일수록 왜곡 없을 것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9A25-4008-4E48-9D87-2FFF208EFB10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1690-78F8-4843-9A17-5D9E92266FB4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예를 들어 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빛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전기 등 여러 가지 현상 각각에 대해 모든 경험적 사실들을 수집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정리해서 얻어내게 될 참다운 경험적 지식들인 셈이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실제로 베이컨 자신이 여러 문제들에 대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-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생과 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밀도가 큰 것과 희박한 것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무거움과 가벼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빛 등에 대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-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자연사들을 집필했고 후에 보일 같은 사람도 이러한 형태의 연구를 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DFF3-83B3-4BF4-A509-B2D733D5B673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lvl="1" marL="457200" indent="0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이성적인 방법으로 경험 훈련 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갈릴레오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데카르트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도구를 통한 감각의 보완 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망원경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현미경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):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도구의 신뢰성은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신뢰할 수 있는 ‘목격자’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젠틀맨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국왕 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보일의 실험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상세한 보고서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가상의 목격자 산출 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보일의 실험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직접 목격하지 못한 독자들이 ‘사실상의 목격자’가 될 수 있도록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!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사실 그대로의 기록’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실험이 언제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어떻게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어디서 행해졌는지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또 누가 참석했고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몇 번이나 반복했는가 등을 세세하게 열거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성공과 마찬가지로 실패도 보고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장황한 상황 설명 → 실험 결과를 독자들이 불신하지 않도록 만듦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5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8AC8-3A4B-4DFC-A83C-1D71F1113C60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신대륙 발견과 유럽의 팽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리고 르네상스 인문주의와 인쇄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새로운 사실들과 고대 원전의 범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교개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–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성경 해석의 권위는 누구에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코페르니쿠스의 도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–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우주의 중심은 어디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8A87-EF12-4DAB-BEC4-94F9F91377EF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9900cc"/>
                </a:solidFill>
                <a:latin typeface="맑은 고딕"/>
              </a:rPr>
              <a:t>아리스토텔레스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는 방해 받지 않은 자연의 일상적 움직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(ordinary course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을 설명하는 데 초점 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 자연에 개입해 들어가는 실험은 자연을 ‘비자연스러운 것’으로 만드는 것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자연과 인공의 구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맑은 고딕"/>
              </a:rPr>
              <a:t>17</a:t>
            </a:r>
            <a:r>
              <a:rPr b="1" lang="ko-KR" sz="2400" spc="-1" strike="noStrike">
                <a:solidFill>
                  <a:srgbClr val="9900cc"/>
                </a:solidFill>
                <a:latin typeface="맑은 고딕"/>
              </a:rPr>
              <a:t>세기 실험철학자들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은 인공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인위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으로 만들어진 효과에 대해 관심 보임 </a:t>
            </a:r>
            <a:r>
              <a:rPr b="1" lang="ko-KR" sz="2400" spc="-1" strike="noStrike">
                <a:solidFill>
                  <a:srgbClr val="9900cc"/>
                </a:solidFill>
                <a:latin typeface="Wingdings"/>
                <a:ea typeface="Wingdings"/>
              </a:rPr>
              <a:t></a:t>
            </a:r>
            <a:r>
              <a:rPr b="1" lang="ko-KR" sz="2400" spc="-1" strike="noStrike">
                <a:solidFill>
                  <a:srgbClr val="9900cc"/>
                </a:solidFill>
                <a:latin typeface="맑은 고딕"/>
              </a:rPr>
              <a:t> 실험기구로 자연을 ‘고문하여’ 베일에 감춰진 모습을 드러내야 자연의 법칙을 밝혀낼 수 있음</a:t>
            </a:r>
            <a:r>
              <a:rPr b="1" lang="en-US" sz="2400" spc="-1" strike="noStrike">
                <a:solidFill>
                  <a:srgbClr val="9900cc"/>
                </a:solidFill>
                <a:latin typeface="맑은 고딕"/>
              </a:rPr>
              <a:t>!!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 /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자연과 인공의 구분 약화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8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65C1-83C1-4025-B272-F9C178A68D38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히려 자연의 숨겨진 진리를 더 잘 드러내는 방법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CC37-1F2E-4C66-865F-F457B32E99E2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바람과 풍차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A609-7A6D-4046-A597-E023B39C8B0A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종의 인과 법칙 얻을 수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D4F7-8886-4A9D-8735-C88B9FE7EAA7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lvl="1" marL="45720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신대륙 탐험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: ‘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배’를 타고 ‘미지의 세계’의 ‘탐험’</a:t>
            </a:r>
            <a:endParaRPr b="0" lang="en-US" sz="23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	</a:t>
            </a: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→ </a:t>
            </a: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진기한 물건 수집 </a:t>
            </a:r>
            <a:r>
              <a:rPr b="0" lang="en-US" sz="2200" spc="-1" strike="noStrike">
                <a:solidFill>
                  <a:srgbClr val="c0504d"/>
                </a:solidFill>
                <a:latin typeface="맑은 고딕"/>
              </a:rPr>
              <a:t>/ </a:t>
            </a: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새로운 동식물 발견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정밀한 도구’로 ‘신기한 자연현상’의 ‘발견’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	</a:t>
            </a: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→ </a:t>
            </a: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망원경</a:t>
            </a:r>
            <a:r>
              <a:rPr b="0" lang="en-US" sz="2200" spc="-1" strike="noStrike">
                <a:solidFill>
                  <a:srgbClr val="c0504d"/>
                </a:solidFill>
                <a:latin typeface="맑은 고딕"/>
              </a:rPr>
              <a:t>, </a:t>
            </a: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현미경</a:t>
            </a:r>
            <a:r>
              <a:rPr b="0" lang="en-US" sz="2200" spc="-1" strike="noStrike">
                <a:solidFill>
                  <a:srgbClr val="c0504d"/>
                </a:solidFill>
                <a:latin typeface="맑은 고딕"/>
              </a:rPr>
              <a:t>: </a:t>
            </a: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아직 알려지지 않은 사실 ‘발견’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	</a:t>
            </a: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→ </a:t>
            </a: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진공펌프</a:t>
            </a:r>
            <a:r>
              <a:rPr b="0" lang="en-US" sz="2200" spc="-1" strike="noStrike">
                <a:solidFill>
                  <a:srgbClr val="c0504d"/>
                </a:solidFill>
                <a:latin typeface="맑은 고딕"/>
              </a:rPr>
              <a:t>, </a:t>
            </a: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프리즘</a:t>
            </a:r>
            <a:r>
              <a:rPr b="0" lang="en-US" sz="2200" spc="-1" strike="noStrike">
                <a:solidFill>
                  <a:srgbClr val="c0504d"/>
                </a:solidFill>
                <a:latin typeface="맑은 고딕"/>
              </a:rPr>
              <a:t>: </a:t>
            </a: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일상적으로는 일어나지 않는 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	</a:t>
            </a: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    </a:t>
            </a: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자연현상 ‘창조’ 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0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E987-8577-4937-BED1-8AF501D4667C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3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3ED8-8403-4E04-8378-CDAC6AF82492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1F4E-A38B-4F25-9B01-E97E60BB78EF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9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CA7A-B899-4F66-8FB6-C031BFA6C823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2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0A97-7E14-4DAC-9028-FA740F2181BD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2411-7327-4E81-8D4A-5539C0B7DE18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60C1-372F-4C3F-B550-7D97D54C1BCC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실 수집 혼자서 못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여러 명 같이 해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상 필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8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BF04-36BB-465D-A7AA-231035E6C5C1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후 과학단체를 통해 구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10E0-65BB-41E6-A873-67E341C841AB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2D9C-AD06-4665-AA50-4D3A1C2C68DD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이탈리아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린체이 아카데미 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(Cesi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공 후원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, 1601; 1630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와해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치멘토 아카데미 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(1657, Leopold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공의 후원이 끊기며 와해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프랑스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메르센느 그룹 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(1630s-1644)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테베노 그룹 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(1664):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이 그룹이 콜베르에게 도움을 요청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왕립 과학아카데미 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(1666)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영국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윌킨스 중심의 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철학 칼리지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(1644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년경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):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런던 </a:t>
            </a:r>
            <a:r>
              <a:rPr b="0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 옥스포드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1660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년 왕정복고 이후에 런던으로 돌아와 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왕립학회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(Royal Society)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를 설립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AC93-1799-44B2-9A47-C1B6FC08B1DF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왕립학회 회장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(Ashmole), Charles II (</a:t>
            </a:r>
            <a:r>
              <a:rPr b="0" lang="ko-KR" sz="24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국왕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), </a:t>
            </a:r>
            <a:r>
              <a:rPr b="0" lang="ko-KR" sz="24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베이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열악한 상황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국왕으로부터 헌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(Charter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을 받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But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재정적인 지원 無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/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실험실 無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회원 회비로 운영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비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프랑스 왕립과학아카데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&lt;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철학회보</a:t>
            </a:r>
            <a:r>
              <a:rPr b="0" i="1" lang="en-US" sz="1900" spc="-1" strike="noStrike">
                <a:solidFill>
                  <a:srgbClr val="000000"/>
                </a:solidFill>
                <a:latin typeface="Book Antiqua"/>
              </a:rPr>
              <a:t>Philosophical Transactions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학회의 서기 올덴버그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(Henry Oldenburg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가 다른 과학자들과 교환하던 서신을 모아 개인적으로 출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곧 학회의 공식 학회지가 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. 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현존하는 가장 오래된 학회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발견의 우선권 확인 기능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공개적인 과학적 논쟁 출범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실험관리인 후크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(Robert Hooke)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제도화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7BAA-3B33-475D-BFBC-0EFF483B8408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799B-E6C5-4C69-B495-F8067EF43A0B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데카르트</a:t>
            </a:r>
            <a:r>
              <a:rPr b="0" lang="en-US" sz="1500" spc="-1" strike="noStrike">
                <a:solidFill>
                  <a:srgbClr val="000000"/>
                </a:solidFill>
                <a:latin typeface="맑은 고딕"/>
              </a:rPr>
              <a:t>(Rene Descartes, 1596-1650) 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철학처럼 아무런 가치도 창출하지 못했던 것이 또 무엇이 있겠느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는 ‘난로가 지펴진 방’에 혼자 틀어박혀 이미 자신이 읽은 철학 문헌들을 모두 제쳐놓았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철학적 사유를 처음부터 다시 시도하는 편이 ‘낡은 기초 위에 집을 짓는 것’보다 나았던 것이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4B67-5EE8-4CCB-BAB5-BD611B2FD173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E564-FA27-4188-8507-FB333B66035C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F583-5477-4CC7-9F7A-742C4BFEB5E8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성직자와 로마 교황의 해석에 의존하기보다 기독교인 개개인들이 직접 성서를 읽어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”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c0504d"/>
                </a:solidFill>
                <a:latin typeface="맑은 고딕"/>
              </a:rPr>
              <a:t>→</a:t>
            </a:r>
            <a:r>
              <a:rPr b="0" lang="ko-KR" sz="1200" spc="-1" strike="noStrike">
                <a:solidFill>
                  <a:srgbClr val="c0504d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c0504d"/>
                </a:solidFill>
                <a:latin typeface="맑은 고딕"/>
              </a:rPr>
              <a:t>제도화된 권위의 전통적 해석에 얽매이지 말고 스스로 자연이라는 책을 읽을 것을 부추김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1F42-7BD3-4BDE-960C-E27748AE77B6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2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2FB4-9316-443A-897C-D4E1144301AB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아리스토텔레스주의는 경험에 입각하지 않고 논리와 말장난만 일삼는 이론 체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1898-F677-4243-9AD9-8480582BE00F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6B2E-D58B-4BA5-A658-2AEC21575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6807-C128-47F4-8488-F6426B3B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2308-76FE-4F71-997F-DE74E5455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5FD6-77FE-494E-A6A4-BF8F7A3DD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465B-6777-4B13-A9F6-169667FB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4B89-ABEF-463E-9074-E0CDDD7B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8FCE-C201-49F5-A917-3696B813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3F9C-4D18-4D25-963B-3CAF969D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DF9D-8685-4E22-BED8-853D2C38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BBCF-6AE2-4851-BC9F-232A386C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CFB8-79A2-4CEF-BCB8-9969E57D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09D9-22E5-42F1-BC9E-A7915457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c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80AB-9868-446E-AD3A-D0E278ECE861}" type="slidenum"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3" descr="sir francis bacon presentment"/>
          <p:cNvPicPr/>
          <p:nvPr/>
        </p:nvPicPr>
        <p:blipFill>
          <a:blip r:embed="rId1"/>
          <a:stretch/>
        </p:blipFill>
        <p:spPr>
          <a:xfrm>
            <a:off x="0" y="-3267000"/>
            <a:ext cx="14125680" cy="11582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3141360"/>
            <a:ext cx="547344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c0504d"/>
                </a:solidFill>
                <a:latin typeface="Trebuchet MS"/>
              </a:rPr>
              <a:t>베이컨과</a:t>
            </a:r>
            <a:br>
              <a:rPr sz="4400"/>
            </a:br>
            <a:r>
              <a:rPr b="1" lang="ko-KR" sz="4400" spc="-1" strike="noStrike">
                <a:solidFill>
                  <a:srgbClr val="c0504d"/>
                </a:solidFill>
                <a:latin typeface="Trebuchet MS"/>
              </a:rPr>
              <a:t>실험과학의 </a:t>
            </a:r>
            <a:br>
              <a:rPr sz="4400"/>
            </a:br>
            <a:r>
              <a:rPr b="1" lang="ko-KR" sz="4400" spc="-1" strike="noStrike">
                <a:solidFill>
                  <a:srgbClr val="c0504d"/>
                </a:solidFill>
                <a:latin typeface="Trebuchet MS"/>
              </a:rPr>
              <a:t>탄생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아리스토텔레스에게 경험이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일상적 보편적 경험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/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조작되지 않은 자연의 관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5144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5144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해는 매일 동쪽에서 떠오른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”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5144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무거운 것은 아래로 떨어진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”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아리스토텔레스 자연철학의 목표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미 알려진 사실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’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’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일어나는지 설명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2160" y="242100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프란시스 베이컨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(1561-1626)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537336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정확한 사실의 축적 중요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/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실험의 정당성 옹호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지식의 목적은 유용성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/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협동연구의 필요성 역설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69" name="Picture 13" descr="sir francis bacon presentment"/>
          <p:cNvPicPr/>
          <p:nvPr/>
        </p:nvPicPr>
        <p:blipFill>
          <a:blip r:embed="rId1"/>
          <a:stretch/>
        </p:blipFill>
        <p:spPr>
          <a:xfrm>
            <a:off x="1976400" y="333360"/>
            <a:ext cx="518796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4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개의 우상과 기존 학문 비판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연금술과 기술 비판적 수용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신비하고 모호한 관념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/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체계적 방법의 부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자연을 제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/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변형하여 이득을 얻으려는 태도 수용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베이컨의 아이디어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마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-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술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/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학 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마술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/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-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학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rebuchet MS"/>
              </a:rPr>
              <a:t>1. </a:t>
            </a:r>
            <a:r>
              <a:rPr b="1" lang="ko-KR" sz="3300" spc="-1" strike="noStrike">
                <a:solidFill>
                  <a:srgbClr val="ffffff"/>
                </a:solidFill>
                <a:latin typeface="Trebuchet MS"/>
              </a:rPr>
              <a:t>정확한 사실을 체계적으로 수집하라</a:t>
            </a:r>
            <a:r>
              <a:rPr b="1" lang="en-US" sz="3300" spc="-1" strike="noStrike">
                <a:solidFill>
                  <a:srgbClr val="ffffff"/>
                </a:solidFill>
                <a:latin typeface="Trebuchet MS"/>
              </a:rPr>
              <a:t>!</a:t>
            </a:r>
            <a:endParaRPr b="1" lang="en-US" sz="3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우리가 알고 있는 것이 너무 적으며 잘못된 것이 많다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722160" y="90756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세계 여러 지역에 관해서 그들이 알고 있는 지식은 단지 자그마한 부분에 지나지 않았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이런 이유로 그들은 북쪽에 사는 사람들에게는 모두 스키타이라는 이름을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서쪽에 사는 사람들에게는 모두 켈트라는 이름을 붙였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그들은 에티오피아 너머의 아프리카와 갠지스 강 너머의 아시아에 대해 전혀 아는 바가 없었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물론 신대륙의 여러 지역에 관해서는 심지어 소문이나 믿을 만한 근거를 통해서라도 알 턱이 없었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다양한 기후나 자연 조건을 지닌 채 수많은 사람들이 숨쉬며 살아가고 있는 지역들은 그리스인들에 의해 사람이 살 수 없는 곳으로 불리었고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지금 보면 교외의 소풍 정도로나 간주될 데모크리토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플라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피타고라스의 나들이가 그 당시에는 무슨 대단한 것인 양 인구에 회자되었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” –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베이컨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《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위대한 부흥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》 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(1620)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귀납적 방법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사실의 수집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/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분류 이후에 일반화 및 이론 도출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성급한 일반화 금물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우선 사실 확인에 신중할 것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406584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거짓된 보고를 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어떻게 걸러낼 것인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83" name="Picture 4" descr="Scan0024"/>
          <p:cNvPicPr/>
          <p:nvPr/>
        </p:nvPicPr>
        <p:blipFill>
          <a:blip r:embed="rId1"/>
          <a:stretch/>
        </p:blipFill>
        <p:spPr>
          <a:xfrm>
            <a:off x="4932360" y="765000"/>
            <a:ext cx="375912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16-17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세기 유럽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: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지식의 위기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존 권위의 추락과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대안의 부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회의주의와 신비주의적 조류의 확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rebuchet MS"/>
              </a:rPr>
              <a:t>2. </a:t>
            </a:r>
            <a:r>
              <a:rPr b="1" lang="ko-KR" sz="3300" spc="-1" strike="noStrike">
                <a:solidFill>
                  <a:srgbClr val="ffffff"/>
                </a:solidFill>
                <a:latin typeface="Trebuchet MS"/>
              </a:rPr>
              <a:t>자연의 진실을 밝히려면 실험을 하라</a:t>
            </a:r>
            <a:r>
              <a:rPr b="1" lang="en-US" sz="3300" spc="-1" strike="noStrike">
                <a:solidFill>
                  <a:srgbClr val="ffffff"/>
                </a:solidFill>
                <a:latin typeface="Trebuchet MS"/>
              </a:rPr>
              <a:t>!</a:t>
            </a:r>
            <a:endParaRPr b="1" lang="en-US" sz="3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22160" y="393372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실험도구로 자연을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고문하여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’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베일에 감춰진 모습을 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드러내야 자연의 참된 모습을 밝혀낼 수 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인공과 자연의 구분 철폐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조작은 자연을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비자연스러운 것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’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으로 만들지 않는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본질은 필요 없다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!</a:t>
            </a: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작동만 시키면 된다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!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자연을 작동시킬 수 있다면 자연을 이해한 것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90" name="Picture 2" descr="http://www.sdabeebreda.com/Wind%20mill_files/wind-mill.jpg"/>
          <p:cNvPicPr/>
          <p:nvPr/>
        </p:nvPicPr>
        <p:blipFill>
          <a:blip r:embed="rId1"/>
          <a:stretch/>
        </p:blipFill>
        <p:spPr>
          <a:xfrm>
            <a:off x="3132000" y="-53172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도구의 중요성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도구를 통해 인간의 감각 보완 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상세한 사실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도구를 통해 자연에 개입 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If-then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규칙 얻음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59280" y="475920"/>
            <a:ext cx="356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Trebuchet MS"/>
              </a:rPr>
              <a:t>베이컨</a:t>
            </a: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《</a:t>
            </a:r>
            <a:r>
              <a:rPr b="1" lang="ko-KR" sz="2000" spc="-1" strike="noStrike">
                <a:solidFill>
                  <a:srgbClr val="ffffff"/>
                </a:solidFill>
                <a:latin typeface="Trebuchet MS"/>
              </a:rPr>
              <a:t>위대한 부흥</a:t>
            </a: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》 </a:t>
            </a: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(1620)</a:t>
            </a: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59280" y="3933360"/>
            <a:ext cx="38894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배를 타고 미지의 세계를 탐험하듯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실험도구를 통해 미지의 자연현상 탐구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95" name="Picture 4" descr="Scan0016"/>
          <p:cNvPicPr/>
          <p:nvPr/>
        </p:nvPicPr>
        <p:blipFill>
          <a:blip r:embed="rId1"/>
          <a:stretch/>
        </p:blipFill>
        <p:spPr>
          <a:xfrm>
            <a:off x="755640" y="476280"/>
            <a:ext cx="394344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780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780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98" name="Picture 2" descr="http://www.postech.ac.kr/press/hs/collectedata/990129144050g_telescope.gif"/>
          <p:cNvPicPr/>
          <p:nvPr/>
        </p:nvPicPr>
        <p:blipFill>
          <a:blip r:embed="rId1"/>
          <a:stretch/>
        </p:blipFill>
        <p:spPr>
          <a:xfrm>
            <a:off x="395280" y="1197000"/>
            <a:ext cx="3313080" cy="4643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파일:갈릴레오가 망원경으로 관측한 달의 표면.jpg"/>
          <p:cNvPicPr/>
          <p:nvPr/>
        </p:nvPicPr>
        <p:blipFill>
          <a:blip r:embed="rId2"/>
          <a:stretch/>
        </p:blipFill>
        <p:spPr>
          <a:xfrm>
            <a:off x="3780000" y="1197000"/>
            <a:ext cx="50180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02" name="Picture 4" descr="http://randomknowledge.files.wordpress.com/2008/01/micrographia.png?w=720"/>
          <p:cNvPicPr/>
          <p:nvPr/>
        </p:nvPicPr>
        <p:blipFill>
          <a:blip r:embed="rId1"/>
          <a:stretch/>
        </p:blipFill>
        <p:spPr>
          <a:xfrm>
            <a:off x="611280" y="836640"/>
            <a:ext cx="3449520" cy="5113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Drawing from Robert Hooke's, Micrographia of the compound eye of a grey drone fly."/>
          <p:cNvPicPr/>
          <p:nvPr/>
        </p:nvPicPr>
        <p:blipFill>
          <a:blip r:embed="rId2"/>
          <a:stretch/>
        </p:blipFill>
        <p:spPr>
          <a:xfrm>
            <a:off x="4211640" y="836640"/>
            <a:ext cx="46116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06" name="Picture 2" descr="파일:로버트 보일의 진공펌프.jpg"/>
          <p:cNvPicPr/>
          <p:nvPr/>
        </p:nvPicPr>
        <p:blipFill>
          <a:blip r:embed="rId1"/>
          <a:stretch/>
        </p:blipFill>
        <p:spPr>
          <a:xfrm>
            <a:off x="250920" y="1484280"/>
            <a:ext cx="3060720" cy="3673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http://static.guim.co.uk/Guardian/artanddesign/gallery/2008/oct/28/1000-artworks-to-see-before-you-die-art1/GD7816824@BAL5872-An-Experiment-2252.jpg"/>
          <p:cNvPicPr/>
          <p:nvPr/>
        </p:nvPicPr>
        <p:blipFill>
          <a:blip r:embed="rId2"/>
          <a:stretch/>
        </p:blipFill>
        <p:spPr>
          <a:xfrm>
            <a:off x="3218040" y="1341360"/>
            <a:ext cx="592596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10" name="Picture 5" descr="Experimentum_Crucis"/>
          <p:cNvPicPr/>
          <p:nvPr/>
        </p:nvPicPr>
        <p:blipFill>
          <a:blip r:embed="rId1"/>
          <a:stretch/>
        </p:blipFill>
        <p:spPr>
          <a:xfrm>
            <a:off x="279360" y="1773360"/>
            <a:ext cx="85406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3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지식의 목적은 유용성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!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2160" y="3933720"/>
            <a:ext cx="77724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참된 규칙은 자연에 적용하여 유용한 결과를 낼 것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인간의 지식이 곧 인간의 힘이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”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《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신기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》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 : 3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전통과의 결별이 필요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!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4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협동적으로 연구하라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!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사실의 체계적 수집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검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론화 및 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론의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응용을 위한 협동적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/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분업적 조직 필요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연구에 대한 공적 지원과 연구에 의한 복지 증진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0" y="764640"/>
            <a:ext cx="392256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Trebuchet MS"/>
              </a:rPr>
              <a:t>베이컨</a:t>
            </a: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《</a:t>
            </a:r>
            <a:r>
              <a:rPr b="1" lang="ko-KR" sz="2000" spc="-1" strike="noStrike">
                <a:solidFill>
                  <a:srgbClr val="ffffff"/>
                </a:solidFill>
                <a:latin typeface="Trebuchet MS"/>
              </a:rPr>
              <a:t>새로운 아틀란티스</a:t>
            </a: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》 </a:t>
            </a: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(1624/1627)</a:t>
            </a: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00720" y="3357360"/>
            <a:ext cx="39938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c000"/>
                </a:solidFill>
                <a:latin typeface="Georgia"/>
              </a:rPr>
              <a:t>벤살렘 왕국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물질적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정신적 풍요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1" lang="ko-KR" sz="2600" spc="-1" strike="noStrike">
                <a:solidFill>
                  <a:srgbClr val="ffc000"/>
                </a:solidFill>
                <a:latin typeface="Georgia"/>
              </a:rPr>
              <a:t>솔로몬 학술원</a:t>
            </a:r>
            <a:r>
              <a:rPr b="1" lang="en-US" sz="2600" spc="-1" strike="noStrike">
                <a:solidFill>
                  <a:srgbClr val="ffc000"/>
                </a:solidFill>
                <a:latin typeface="Georgia"/>
              </a:rPr>
              <a:t>’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상적인 협동연구 모델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17" name="Picture 2" descr="Bacon 1628 New Atlantis title page wpreview.png"/>
          <p:cNvPicPr/>
          <p:nvPr/>
        </p:nvPicPr>
        <p:blipFill>
          <a:blip r:embed="rId1"/>
          <a:stretch/>
        </p:blipFill>
        <p:spPr>
          <a:xfrm>
            <a:off x="611280" y="476280"/>
            <a:ext cx="38894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20" name="Picture 2" descr="http://blogfiles.naver.net/20110121_193/bamiya_1295568599711BwkUX_JPEG/%BA%A5%BB%EC%B7%BD%BC%B6%2C_%B1%E8%C0%E7%C0%CC.jpg"/>
          <p:cNvPicPr/>
          <p:nvPr/>
        </p:nvPicPr>
        <p:blipFill>
          <a:blip r:embed="rId1"/>
          <a:stretch/>
        </p:blipFill>
        <p:spPr>
          <a:xfrm>
            <a:off x="-71280" y="44280"/>
            <a:ext cx="9323280" cy="673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과학단체의 출현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베이컨의 이상 실제로 구현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22160" y="573228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영국의 왕립학회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《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철학회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》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25" name="Picture 4" descr="sprat"/>
          <p:cNvPicPr/>
          <p:nvPr/>
        </p:nvPicPr>
        <p:blipFill>
          <a:blip r:embed="rId1"/>
          <a:stretch/>
        </p:blipFill>
        <p:spPr>
          <a:xfrm>
            <a:off x="539640" y="189000"/>
            <a:ext cx="4337280" cy="5352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philtrans"/>
          <p:cNvPicPr/>
          <p:nvPr/>
        </p:nvPicPr>
        <p:blipFill>
          <a:blip r:embed="rId2"/>
          <a:stretch/>
        </p:blipFill>
        <p:spPr>
          <a:xfrm>
            <a:off x="5021280" y="204840"/>
            <a:ext cx="347832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읽을거리와 질문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베이컨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《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신기관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》 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1 : 1-20, 38-62, 98-106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삼단논법의 한계는 무엇인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4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개의 우상을 설명하고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이를 바탕으로 베이컨이 아리스토텔레스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플라톤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수학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원자론을 어떻게 비판하는지 설명하라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경험과 귀납 과정에서 유의할 점은 무엇인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베이컨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《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새로운 아틀란티스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》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, 71-90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쪽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솔로몬 학술원에서는 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《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신기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》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에서 베이컨이 제시한 학문의 목적과 방법이 어떻게 구현되어 있는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22160" y="213336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지금까지의 철학은 무가치하므로 </a:t>
            </a:r>
            <a:br>
              <a:rPr sz="2800"/>
            </a:b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더 나은 설계도로 모든 것을 다시 정립하고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br>
              <a:rPr sz="2800"/>
            </a:b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올바른 기초 위에서 과학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기술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인간의 </a:t>
            </a:r>
            <a:br>
              <a:rPr sz="2800"/>
            </a:b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모든 지식에 대한 총체적인 재건축을 해야 한다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. …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단지 그 방법밖에는 없다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.”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-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베이컨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Francis Bacon, 1561-1626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고대 문헌을 걷어치워라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사물 자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스스로의 실험과 추론에 의지하라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22160" y="162828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나는 무엇이든 증명하고자 할 때 관련 문헌을 인용하지 않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실험과 추론에 의해 결과를 얻어 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”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-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파라켈수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1493-1541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지식을 책 속에서만이 아니라 관련된 사물 자체에서 찾는 진정한 철학자에게 헌정한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”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-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윌리엄 길버트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1544-1633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‘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Book of Nature’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라는 비유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신이 쓴 두 권의 책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i="1" lang="en-US" sz="2600" spc="-1" strike="noStrike">
                <a:solidFill>
                  <a:srgbClr val="ffc000"/>
                </a:solidFill>
                <a:latin typeface="Georgia"/>
              </a:rPr>
              <a:t>Bible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&amp; ‘</a:t>
            </a:r>
            <a:r>
              <a:rPr b="0" i="1" lang="en-US" sz="2600" spc="-1" strike="noStrike">
                <a:solidFill>
                  <a:srgbClr val="ffc000"/>
                </a:solidFill>
                <a:latin typeface="Georgia"/>
              </a:rPr>
              <a:t>Book of Nature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’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6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세기 종교 개혁은 신의 책을 직접 읽도록 권고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22160" y="69192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철학은 우리의 눈앞에 끊임없이 열려져 있는 우주라는 거대한 책에 씌어져 있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 …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그것은 수학적 언어로 씌어 있으며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그 문자는 삼각형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원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그리고 기타 도형들로서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이것들이 없이는 인간은 단 한 단어도 이해하지 못할 것이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” -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갈릴레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(Galileo Galilei, 1564-1642)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사물 그 자체에 대한 관찰 없이 다른 이들의 해설로부터 가르침을 받으려고만 하는 것은 열등한 것이며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(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특히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)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자연이라는 책은 열려 있으므로 참고하기가 쉽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” -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하비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(William Harvey, 1578-1657)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자연이라는 거대한 책은 페이지마다 실재하는 상형문자들로 가득 차 있는데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거기에서는 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반대로 표현하자면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)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사물이 단어를 나타내고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사물의 특성이 문자를 나타낸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” -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보일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(Robert Boyle, 1627-1691)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의문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아리스토텔레스도 경험을 존중하지 않았던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3:24:00Z</dcterms:created>
  <dc:creator>zolaist</dc:creator>
  <dc:description/>
  <dc:language>en-US</dc:language>
  <cp:lastModifiedBy>zolaist</cp:lastModifiedBy>
  <dcterms:modified xsi:type="dcterms:W3CDTF">2011-04-14T15:17:40Z</dcterms:modified>
  <cp:revision>53</cp:revision>
  <dc:subject/>
  <dc:title>베이컨과 실험과학의  탄생</dc:title>
</cp:coreProperties>
</file>